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287-E90A-4142-91B1-3493C218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256-65E6-4E69-8D2C-7A0CE7E4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5C9-A437-4E47-8129-7860FE4D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9A8-B266-4DDF-A725-BB41B083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83F7-EC0C-4787-BADC-BCBE1958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82E7-8956-4A9F-BE46-E524AA8A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25E5-5403-4E52-A22B-57D16C3E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5024-E330-46D1-B3C1-B6153F44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7747-A4B0-4529-B676-1A47FD5F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BC70-244C-4BA0-88A7-162B7C50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A862-F551-4535-817C-1AFFC02E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B93-D2CF-4C70-A508-DFA016DB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85A9-4DC0-4B8A-B0F4-8F6083E8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5316-8113-4478-9287-8C4A80B8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CEC8-4C2A-4F48-A5BC-0365AD6D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875C-02E8-43D9-8AAF-215FAE4B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96C4-B44B-400D-B3FE-5775899A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D8D-D2D8-4781-ACB3-1DC76564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45A-E136-4CB4-B1D1-12A21BF9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20E-47C3-4E68-B7C5-B7CD0DD0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853-AA87-46E9-AB64-D4AE8EBB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C0E-AA4B-4C70-8270-0E9981E7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96B-02B9-4A71-9282-D9250FDC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1B0-75E8-4D14-86BE-E46735D2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E132-670D-4A11-988E-F241A8BA559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D63F-B2D9-4EC9-BD80-1EE669B959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64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Как разместить Россию на листе бумаги??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940360" y="3933720"/>
            <a:ext cx="22035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ожет быть так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840360" cy="5141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625400" cy="182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8360" y="4797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у ведь это не вся Россия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 может быть так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705800" cy="4846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93080" y="404640"/>
            <a:ext cx="1939680" cy="1819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11280" y="2997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о это только флаг нашей страны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280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ся Россия не влезает..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Ее надо уменьшить каким-нибудь способом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Есть такое понятие – МАСШТАБ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24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Отношение длины отрезка на изображении к его настоящей длине называется масштабом изображения 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092480" y="4686480"/>
            <a:ext cx="17575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казывается, чтобы наша страна уместилась на листе бумагт ее нужно уменьшить в 18 500 000 раз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76720" y="3500280"/>
            <a:ext cx="29527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 мы получили карту России в масштабе 1 : 18 500 00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566720"/>
            <a:ext cx="86058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1557360"/>
            <a:ext cx="8460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езентацию подготовила группа «Патриот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59280" y="3573360"/>
            <a:ext cx="27367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06:41:37Z</dcterms:created>
  <dc:creator>Елена</dc:creator>
  <dc:description/>
  <dc:language>en-US</dc:language>
  <cp:lastModifiedBy>Елена</cp:lastModifiedBy>
  <dcterms:modified xsi:type="dcterms:W3CDTF">2011-06-09T07:14:23Z</dcterms:modified>
  <cp:revision>2</cp:revision>
  <dc:subject/>
  <dc:title>Как разместить Россию на листе бумаги???</dc:title>
</cp:coreProperties>
</file>